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3E8DD-005F-476B-8829-B5A11696C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BAF47-3786-4AB8-B8EE-6B239B90B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90C76-84A6-48F8-8325-4912FED21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1A971-A2EF-41DB-BAC5-50D30878A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B5D8F-212D-49EE-9CB7-D0F48A439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87C02-9E94-452E-92C4-09C9FB9A5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62F3C-B1BC-4D90-A467-35BBEB198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2D18B-3A67-491D-A662-22BD26343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39FD9-208C-49C0-9DB2-063968FBE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34AD9-BF22-4AD0-BFB5-DB6E53D03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1831A-5CBE-49EE-A0AB-5759F9ED1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51279-DA20-4640-AA93-1D6CAD48E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7721F-0195-46BF-B7DD-90BDDCD637A9}"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kariyer.net/" TargetMode="External"/><Relationship Id="rId2" Type="http://schemas.openxmlformats.org/officeDocument/2006/relationships/hyperlink" Target="https://www.secretcv.com/"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08000" y="620640"/>
            <a:ext cx="8856720" cy="612144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YAZILI KOMPOZİSYON TÜRLERİ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7. HAFTANIN DEVAM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16000" y="0"/>
            <a:ext cx="7740720" cy="5857920"/>
          </a:xfrm>
          <a:prstGeom prst="rect">
            <a:avLst/>
          </a:prstGeom>
          <a:noFill/>
          <a:ln w="0">
            <a:noFill/>
          </a:ln>
        </p:spPr>
        <p:txBody>
          <a:bodyPr anchor="t">
            <a:no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ZGEÇMİŞTE GENEL DÜZE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sminizi en üste yazın. Adresinizi farklı satırda yaz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Tablo, grafik, dikey‐yatay çizgilerin kullanımından kaçın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alibri"/>
              </a:rPr>
              <a:t>Basit bir harf karakteri kullan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Özgeçmişinizin tümünü tek harf karakterinde yaz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11 ya da 12 punto kullanarak oldukça okunaklı bir şekilde yaz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ğıdın tek yüzünü kullan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Word ya da PDF formatında hazırlayın.</a:t>
            </a: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32000" y="0"/>
            <a:ext cx="7524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Özgeçmiş  Çeşitleri</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Kronolojik (zaman sıralı)</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Fonksiyonel (işlevsel)</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Hedefe Yönelik</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örüntülü CV</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08000" y="620640"/>
            <a:ext cx="885672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2" descr="image1"/>
          <p:cNvPicPr/>
          <p:nvPr/>
        </p:nvPicPr>
        <p:blipFill>
          <a:blip r:embed="rId1"/>
          <a:stretch/>
        </p:blipFill>
        <p:spPr>
          <a:xfrm>
            <a:off x="0" y="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000" y="620640"/>
            <a:ext cx="8856720" cy="6121440"/>
          </a:xfrm>
          <a:prstGeom prst="rect">
            <a:avLst/>
          </a:prstGeom>
          <a:noFill/>
          <a:ln w="0">
            <a:noFill/>
          </a:ln>
        </p:spPr>
        <p:txBody>
          <a:bodyPr lIns="0" rIns="0" tIns="0" bIns="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000000"/>
              </a:solidFill>
              <a:latin typeface="Calibri"/>
            </a:endParaRPr>
          </a:p>
        </p:txBody>
      </p:sp>
      <p:pic>
        <p:nvPicPr>
          <p:cNvPr id="55" name="Picture 2" descr="image2"/>
          <p:cNvPicPr/>
          <p:nvPr/>
        </p:nvPicPr>
        <p:blipFill>
          <a:blip r:embed="rId1"/>
          <a:stretch/>
        </p:blipFill>
        <p:spPr>
          <a:xfrm>
            <a:off x="0" y="0"/>
            <a:ext cx="9144000" cy="6500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213840"/>
            <a:ext cx="8425080" cy="652788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0000"/>
                </a:solidFill>
                <a:uFillTx/>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http://www.yenibiris.com/</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563c1"/>
                </a:solidFill>
                <a:uFillTx/>
                <a:latin typeface="Calibri"/>
                <a:hlinkClick r:id="rId1"/>
              </a:rPr>
              <a:t>http://www.kariyer.net/</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563c1"/>
                </a:solidFill>
                <a:uFillTx/>
                <a:latin typeface="Calibri"/>
                <a:hlinkClick r:id="rId2"/>
              </a:rPr>
              <a:t>https://www.secretcv.com/</a:t>
            </a:r>
            <a:r>
              <a:rPr b="0" lang="tr-TR" sz="2400" spc="-1" strike="noStrike">
                <a:solidFill>
                  <a:srgbClr val="000000"/>
                </a:solidFill>
                <a:latin typeface="Calibri"/>
              </a:rPr>
              <a:t> vb. internet sitelerinde  öz geçmiş oluşturulabilirsini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755280" y="-360"/>
            <a:ext cx="7993080" cy="642924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	</a:t>
            </a:r>
            <a:endParaRPr b="0" lang="en-US" sz="2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	</a:t>
            </a:r>
            <a:r>
              <a:rPr b="1" lang="tr-TR" sz="2400" spc="-1" strike="noStrike">
                <a:solidFill>
                  <a:srgbClr val="000000"/>
                </a:solidFill>
                <a:latin typeface="Calibri"/>
              </a:rPr>
              <a:t>2. Fıkra/ Köşe Yazısı</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ir yazarın herhangi bir konu hakkındaki kişisel görüş, anlayış ve düşüncelerini kanıtlama gereği duymadan hoş bir üslupla yazdığı, kısa fikir yazılarına fıkra deni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Fıkra veya köşe yazısı gazetenin aynı köşe ya da sütunda yayınlanır. Siyasal, ekonomik, eğitim... gibi günlük toplumsal konular ayrıntıya girilmeden kısaca işleni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755280" y="-360"/>
            <a:ext cx="8064360" cy="64292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000000"/>
                </a:solidFill>
                <a:latin typeface="Calibri"/>
              </a:rPr>
              <a:t>	</a:t>
            </a:r>
            <a:endParaRPr b="0" lang="en-US" sz="2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3. Deneme</a:t>
            </a:r>
            <a:endParaRPr b="0" lang="en-US" sz="18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ir yazarın kendi isteğine göre seçtiği herhangi bir konuda kesin yargılara varmadan, kişisel düşüncelerini kendi kendisiyle konuşuyormuş gibi bir üslupla kaleme aldığı yazılara deneme denir. </a:t>
            </a:r>
            <a:endParaRPr b="0" lang="en-US" sz="18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neme yazarı okuyucuyu hesaba katmadan, konuyu dilediği şekilde seçerek işler. Diğer fikir yazılarından farklı olarak denemelerde aşk, dostluk, iyilik, güzellik, sevinç... gibi daha çok soyut konular işlenir.</a:t>
            </a:r>
            <a:endParaRPr b="0" lang="en-US" sz="18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neme, Avrupa Edebiyatında Fransız yazar Montaigne ile başlar. Türk edebiyatında ise Tanzimat sonrasında özellikle de Servet-i Fünûn döneminde karşımıza çıkar. Ancak asıl gelişmesini Cumhuriyet döneminde gerçekleştirir. Ahmet Haşim,  </a:t>
            </a:r>
            <a:r>
              <a:rPr b="0" lang="fi-FI" sz="1800" spc="-1" strike="noStrike">
                <a:solidFill>
                  <a:srgbClr val="000000"/>
                </a:solidFill>
                <a:latin typeface="Calibri"/>
              </a:rPr>
              <a:t>Nurullah Ataç, Sabahattin Eyüboğlu, Suut Kemal Yetkin</a:t>
            </a:r>
            <a:r>
              <a:rPr b="0" lang="tr-TR" sz="1800" spc="-1" strike="noStrike">
                <a:solidFill>
                  <a:srgbClr val="000000"/>
                </a:solidFill>
                <a:latin typeface="Calibri"/>
              </a:rPr>
              <a:t> Türk Edebiyatındaki önemli deneme yazarlarıdır.</a:t>
            </a:r>
            <a:r>
              <a:rPr b="0" lang="fi-FI"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971280" y="0"/>
            <a:ext cx="8064360" cy="6121440"/>
          </a:xfrm>
          <a:prstGeom prst="rect">
            <a:avLst/>
          </a:prstGeom>
          <a:noFill/>
          <a:ln w="0">
            <a:noFill/>
          </a:ln>
        </p:spPr>
        <p:txBody>
          <a:bodyPr anchor="t">
            <a:noAutofit/>
          </a:bodyPr>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	</a:t>
            </a:r>
            <a:endParaRPr b="0" lang="en-US" sz="17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ÖRNEK:</a:t>
            </a:r>
            <a:endParaRPr b="0" lang="en-US" sz="17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YALNIZLIK </a:t>
            </a:r>
            <a:br>
              <a:rPr sz="1700"/>
            </a:br>
            <a:r>
              <a:rPr b="0" i="1" lang="tr-TR" sz="1700" spc="-1" strike="noStrike">
                <a:solidFill>
                  <a:srgbClr val="000000"/>
                </a:solidFill>
                <a:latin typeface="Calibri"/>
              </a:rPr>
              <a:t>               Yalnız yaşamanın bir tek amacı vardır sanıyorum; o da daha başıboş, daha rahat yaşamak. Fakat her zaman, buna hangi yoldan varacağımızı pek bilmiyoruz. Çok kez insan dünya işlerini bıraktığını sanır; oysa ki bu işlerin yolunu değiştirmekten başka bir şey yapmamıştır. Bir aileyi yönetmek bir devleti yönetmekten hiç de kolay değildir. Ruh nerde bunalırsa bunalsın, hep aynı ruhtur; ev işlerinin az önemli olmaları, daha az yorucu olmalarını gerektirmez. Bundan başka, saraydan ve pazardan el çekmekle hayatımızın baş kaygılarından kurtulmuş olmuyoruz. </a:t>
            </a: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 </a:t>
            </a:r>
            <a:endParaRPr b="0" lang="en-US" sz="1700" spc="-1" strike="noStrike">
              <a:solidFill>
                <a:srgbClr val="000000"/>
              </a:solidFill>
              <a:latin typeface="Calibri"/>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Montaigne )</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971280" y="0"/>
            <a:ext cx="7777080" cy="612144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4. Makale</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Herhangi bir konuda bilgi vermek, bir gerçeği ortaya koymak, bir tezi kanıtlamak veya bir düşünceyi savunmak amacıyla kaleme alınan ve temel öğesi fikir olan yazılara makale deni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Makale, düşünsel plânla yazılır. Bu yüzden, yazar anlattıklarının doğruluğuna güvenmeli, anlattıklarını bir mantık çerçevesine oturtabilmelidir. Ayrıca işlenen konu kendinden önceki söylenmişlerden, yazılmışlardan ayrı olmalıdır. Yazar, okuyucuya konunun önemini kavratabilmek için örnekleme, karşılaştırma, tanık gösterme gibi nesnel verilerden yararlanmalıdı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Türk edebiyatında makale türünün ilk örneğini Tercüman-ı Ahval gazetesinde “Mukaddime” başlıklı yazısı ile Şinasi vermiştir. Ziya Gökalp, Peyami Safa, N. Sami Banarlı ve Mehmet Kaplan tanınmış makale yazarlarıdır.</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42920" y="0"/>
            <a:ext cx="7632720" cy="65008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5. Eleştiri</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Sanat, edebiyat ya da düşünce yazılarının içeriği ile bu içeriğin işlenişini, değerli ve değersiz yönlerini ortaya koyan bir yazı türüdür. Eleştiri, yaratıcı sanatların arasında değildir. Eleştiri, edebi esere veya başka sanatlara bağlı bir türdür. Yani eleştiri, bir dil yapıtı üzerine ikinci bir dil varlığıdır.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Eleştiri yapan kişi; geçmişin ve çağının sanat olaylarını iyi bilmeli, geniş bilgi ve kültür birikimiyle donanımlı olmalı, dünya edebiyatı, sanatı ve kültürüyle ilgili genel bilgilere sahip olmalı, eleştirdiği konuyu, eseri veya olayı bütün olarak kavramalı, bir sanat eserinin gerçek değerini, özünü, yapısını, değerli-değersiz yönlerini ortaya koymalıdı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Edebiyatımızdaki ilk eleştiri Namık Kemal’in Tahrib-i Harabat’ıdı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Türk edebiyatında  Mehmet Kaplan, Nurullah Ataç, Cemil Meriç ve Hüseyin Cahit Yalçın eleştiri türünün önemli temsilcileridir.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116000" y="620640"/>
            <a:ext cx="7848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Özgeçmiş</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Potansiyel işverene kısaca kendinizi sunacağınız bir kısa tarihçenizdir. Özgeçmişin amacı sizi iş görüşmesine ulaştırmakt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Günümüzde çoğu kaynakta özgeçmiş yerine CV terimi kullanılmaktadır. CV'nin açılımı; Latince </a:t>
            </a:r>
            <a:r>
              <a:rPr b="1" i="1" lang="tr-TR" sz="2400" spc="-1" strike="noStrike">
                <a:solidFill>
                  <a:srgbClr val="000000"/>
                </a:solidFill>
                <a:latin typeface="Calibri"/>
              </a:rPr>
              <a:t>Curriculum Vitae</a:t>
            </a:r>
            <a:r>
              <a:rPr b="0" lang="tr-TR" sz="2400" spc="-1" strike="noStrike">
                <a:solidFill>
                  <a:srgbClr val="000000"/>
                </a:solidFill>
                <a:latin typeface="Calibri"/>
              </a:rPr>
              <a:t>' di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Curriculum</a:t>
            </a:r>
            <a:r>
              <a:rPr b="0" lang="tr-TR" sz="2400" spc="-1" strike="noStrike">
                <a:solidFill>
                  <a:srgbClr val="000000"/>
                </a:solidFill>
                <a:latin typeface="Calibri"/>
              </a:rPr>
              <a:t>; Rota, yol,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Vitae; </a:t>
            </a:r>
            <a:r>
              <a:rPr b="0" lang="tr-TR" sz="2400" spc="-1" strike="noStrike">
                <a:solidFill>
                  <a:srgbClr val="000000"/>
                </a:solidFill>
                <a:latin typeface="Calibri"/>
              </a:rPr>
              <a:t>Hayat</a:t>
            </a:r>
            <a:r>
              <a:rPr b="1" lang="tr-TR" sz="2400" spc="-1" strike="noStrike">
                <a:solidFill>
                  <a:srgbClr val="000000"/>
                </a:solidFill>
                <a:latin typeface="Calibri"/>
              </a:rPr>
              <a:t> </a:t>
            </a:r>
            <a:r>
              <a:rPr b="0" lang="tr-TR" sz="2400" spc="-1" strike="noStrike">
                <a:solidFill>
                  <a:srgbClr val="000000"/>
                </a:solidFill>
                <a:latin typeface="Calibri"/>
              </a:rPr>
              <a:t>anlamına geli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9280" y="-360"/>
            <a:ext cx="8280360" cy="6357960"/>
          </a:xfrm>
          <a:prstGeom prst="rect">
            <a:avLst/>
          </a:prstGeom>
          <a:noFill/>
          <a:ln w="0">
            <a:noFill/>
          </a:ln>
        </p:spPr>
        <p:txBody>
          <a:bodyPr anchor="t">
            <a:no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ÖRNEK:</a:t>
            </a:r>
            <a:endParaRPr b="0" lang="en-US" sz="16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	</a:t>
            </a:r>
            <a:r>
              <a:rPr b="1" lang="tr-TR" sz="1600" spc="-1" strike="noStrike">
                <a:solidFill>
                  <a:srgbClr val="000000"/>
                </a:solidFill>
                <a:latin typeface="Calibri"/>
              </a:rPr>
              <a:t>	</a:t>
            </a:r>
            <a:r>
              <a:rPr b="1" lang="tr-TR" sz="1600" spc="-1" strike="noStrike">
                <a:solidFill>
                  <a:srgbClr val="000000"/>
                </a:solidFill>
                <a:latin typeface="Calibri"/>
              </a:rPr>
              <a:t>	</a:t>
            </a:r>
            <a:r>
              <a:rPr b="1" lang="tr-TR" sz="1600" spc="-1" strike="noStrike">
                <a:solidFill>
                  <a:srgbClr val="000000"/>
                </a:solidFill>
                <a:latin typeface="Calibri"/>
              </a:rPr>
              <a:t>SİNEKLİ BAKKAL</a:t>
            </a:r>
            <a:endParaRPr b="0" lang="en-US" sz="16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a:t>
            </a:r>
            <a:r>
              <a:rPr b="0" lang="tr-TR" sz="1600" spc="-1" strike="noStrike">
                <a:solidFill>
                  <a:srgbClr val="000000"/>
                </a:solidFill>
                <a:latin typeface="Calibri"/>
              </a:rPr>
              <a:t>Tekrar tekrar basılan Sinekli Bakkal'ın, okuru en çok çeken yönü de herhalde II. Abdülhamit döneminin İstanbul'unu, her zümreden insana yer vererek anlatmasıdır. Fakir kenar mahallesi, zengin konakları ve saray çevresiyle. "Kitabın asıl güzel ve büyük tarafı, yerli olması, bize ait şeylerle dolu olması ve cemiyet hayatımızın çok mühim bir dönüm yerinde, ondan kesilmiş bir makta gibi canlı, vazıh ve türlü maniyerden uzak bir aynası olmasıdır." diyor Ahmet Hamdi Tanpınar da. Ne var ki Adıvar bir dönemi yansıtmakla yetinmiyor; amacı yalnızca belli bir tarih dönemindeki yaşamı canlandırmak değil, aynı zamanda bu insanların yaşamı dolayısıyla genel bazı siyasal ve toplumsal sorunlarla ilgili düşüncelerini anlatmak. Bundan ötürü romana koyduğu çeşitli çevrelerin bir işlevi de belli değerleri temsil etmektedir. …</a:t>
            </a:r>
            <a:endParaRPr b="0" lang="en-US" sz="1600" spc="-1" strike="noStrike">
              <a:solidFill>
                <a:srgbClr val="000000"/>
              </a:solidFill>
              <a:latin typeface="Calibri"/>
            </a:endParaRPr>
          </a:p>
          <a:p>
            <a:pPr algn="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Berna Moran, Türk Romanına Eleştirel Bir Bakış)</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360"/>
            <a:ext cx="7993080" cy="64292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6.Gezi Yazısı</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urt içinde veya yurt dışında yapılan gezilerde gezilip görülen yerlerin anlatılmaya değer ilginç yönlerinin kaleme alındığı edebi yazılara gezi yazısı deni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Gezi yazısı denilence ilk akla gelen Evliya Çelebi’nin Seyahatnamesi’dir. Günümüzde ise Yavuz Bülent Bülent Bakiler, Haldun Taner, Nedim Gürsel gezi yazısı türünde eserler vermektedi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755640" y="-360"/>
            <a:ext cx="8137440" cy="64292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u="sng">
                <a:solidFill>
                  <a:srgbClr val="ff0000"/>
                </a:solidFill>
                <a:uFillTx/>
                <a:latin typeface="Calibri"/>
              </a:rPr>
              <a:t>DİKK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ff0000"/>
                </a:solidFill>
                <a:latin typeface="Calibri"/>
              </a:rPr>
              <a:t>GEZİ YAZISI VE ANI TÜRÜNÜ BİRBİRİNE KARIŞTIRMAYINIZ!</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000000"/>
                </a:solidFill>
                <a:latin typeface="Calibri"/>
              </a:rPr>
              <a:t>Geziyi yapan kişinin, gezdiği coğrafyayla ilgili hatıralarını anlattığı düşünülerek gezi yazıları zaman zaman anı türüyle bir tutulmuştur. Oysa gezi yazısı anı türünden içerik olarak ayrılır. Gezi yazısında anılar değil, öncelikle coğrafyalar temel alın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971640" y="-360"/>
            <a:ext cx="7921440" cy="642924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Calibri"/>
              </a:rPr>
              <a:t>	</a:t>
            </a:r>
            <a:r>
              <a:rPr b="1" i="1" lang="tr-TR" sz="2000" spc="-1" strike="noStrike">
                <a:solidFill>
                  <a:srgbClr val="000000"/>
                </a:solidFill>
                <a:latin typeface="Calibri"/>
              </a:rPr>
              <a:t>ÖRNEK:</a:t>
            </a:r>
            <a:r>
              <a:rPr b="1" i="1" lang="tr-TR" sz="2000" spc="-1" strike="noStrike">
                <a:solidFill>
                  <a:srgbClr val="000000"/>
                </a:solidFill>
                <a:latin typeface="Calibri"/>
              </a:rPr>
              <a:t>	</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Calibri"/>
              </a:rPr>
              <a:t>	</a:t>
            </a:r>
            <a:r>
              <a:rPr b="1" i="1" lang="tr-TR" sz="2000" spc="-1" strike="noStrike">
                <a:solidFill>
                  <a:srgbClr val="000000"/>
                </a:solidFill>
                <a:latin typeface="Calibri"/>
              </a:rPr>
              <a:t>Beş Şehir’den…</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a:t>
            </a:r>
            <a:r>
              <a:rPr b="0" lang="tr-TR" sz="2000" spc="-1" strike="noStrike">
                <a:solidFill>
                  <a:srgbClr val="000000"/>
                </a:solidFill>
                <a:latin typeface="Calibri"/>
              </a:rPr>
              <a:t>Erzurum, Türk tarihine, Türk coğrafyasına 1945 metreden bakar. Şehrin macerası düşünülürse, bu yükseklik daima göz önünde tutulması gereken bir şey olur. Malazgirt Zaferi’nin açtığı gedikten yeni vatana giren cetlerimizin ilk fethettikleri büyük merkezî şehirlerden biridir.</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Tarihimizin ikinci dönüm yerinde, Millî Mücadele’nin ilk temeli gene Erzurum’da atılır. Her şeye rağmen hür ve müstakil yaşamak iradesi ilkin bu kartal yuvasında kanatlanır. Atatürk Erzurum’dan işe başlar. Tıpkı ilk fatihler gibi oradan Anadolu’nun içine doğru yürür; oradan başlayarak yurdumuzu ve milletimizin tarihi hakları adına yeni baştan fethederiz.</a:t>
            </a:r>
            <a:endParaRPr b="0" lang="en-US" sz="20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hmet Hamdi Tanpınar, Beş Şeh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116000" y="0"/>
            <a:ext cx="7704000" cy="65008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7. Sohbet/ Söyleşi</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Sohbet, makaleye benzer bir yazı türüdür. Konusu daha çok genel ya da günlük sanat olaylarıdır. Sohbet; konu, tez ve savunma amacı güdülmeden ve karşılıklı konuşma havası içinde, sıcak bir dille yazılır. Günlük konuşma diline yakın bir dil kullanılı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Ahmet Rasim (Ramazan Sohbetleri), Suut Kemal Yetkin (Edebiyat Söyleşileri), Şevket Rado(Eşref Saati), Melih Cevdet Anday (Dilimiz Üzerine Söyleşiler), Nurullah Ataç (Karalama Defteri), Cenap Şahabettin, Refik Halit Karay, Hasan Ali Yücel, Attila İlhan gibi sanatçılar sohbet/söyleşi türünde eserler vermişlerdir. </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7" name="4 Dikdörtgen"/>
          <p:cNvSpPr/>
          <p:nvPr/>
        </p:nvSpPr>
        <p:spPr>
          <a:xfrm>
            <a:off x="2286000" y="2274840"/>
            <a:ext cx="457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755280" y="-360"/>
            <a:ext cx="8280360" cy="6429240"/>
          </a:xfrm>
          <a:prstGeom prst="rect">
            <a:avLst/>
          </a:prstGeom>
          <a:noFill/>
          <a:ln w="0">
            <a:noFill/>
          </a:ln>
        </p:spPr>
        <p:txBody>
          <a:bodyPr anchor="t">
            <a:noAutofit/>
          </a:bodyPr>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endParaRPr b="0" lang="en-US" sz="15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ÖRNEK</a:t>
            </a:r>
            <a:r>
              <a:rPr b="0" lang="tr-TR" sz="1500" spc="-1" strike="noStrike">
                <a:solidFill>
                  <a:srgbClr val="000000"/>
                </a:solidFill>
                <a:latin typeface="Calibri"/>
              </a:rPr>
              <a:t>:</a:t>
            </a:r>
            <a:endParaRPr b="0" lang="en-US" sz="15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Sözden Söze / Nurullah Ataç</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Mektuptan açılmış talihim, bir tane daha geldi. Öteki gibi değil bu. Bir kere yazan gizlemiyor kendini, kim olduğunu söylüyor: İsmet Zeki Eyüboğlu adında bir genç. İstanbul Bilim Yurdunda yani Üniversitesinde okuyormuş. Sonra da benimle eğlenmiyor, alaya almıyor beni, över gibi gözüküp alttan alta iğnelemeğe kalkmıyor. Çıkışıyor bana, çıkışıyor ya, haklı olarak çıkışıyor. Eski yazılarımı, şu Öz Türkçe yazılarımı beğenirmiş, yenilerine sinirleniyor, şöyle diyor:</a:t>
            </a:r>
            <a:br>
              <a:rPr sz="1500"/>
            </a:br>
            <a:r>
              <a:rPr b="0" lang="tr-TR" sz="1500" spc="-1" strike="noStrike">
                <a:solidFill>
                  <a:srgbClr val="000000"/>
                </a:solidFill>
                <a:latin typeface="Calibri"/>
              </a:rPr>
              <a:t>	</a:t>
            </a:r>
            <a:r>
              <a:rPr b="0" lang="tr-TR" sz="1500" spc="-1" strike="noStrike">
                <a:solidFill>
                  <a:srgbClr val="000000"/>
                </a:solidFill>
                <a:latin typeface="Calibri"/>
              </a:rPr>
              <a:t>"Geçen günkü Nokta dergisinde Ulus'tan aktarılmış bir yazınızı okudum. Ne çok üzüldüm bilseniz! Yoksa sizi de mi elden kaçırdık? Nerde o eski güzelim Öz Türkçe sözler, nerde o yazınızdaki edebiyat, ahlâk, hak, sanat, merak, şiir gibi tatsız tutsuz Osmanlıca sözler. Niçin şunun bunun sözüne bakıp da düşüncelerimizi değiştiriyorsunuz? O yeni sözleri beğenmeyenler var diye mi yazmak istemiyorsunuz? Günün birinde bir kişi çıkıp size: "Beğenmedim bu sesinizi" dese ona bakıp da sesinizi değiştirecek misiniz? Ne derse desin el gün. Biz yolumuza bakalım.</a:t>
            </a:r>
            <a:endParaRPr b="0" lang="en-US" sz="1500" spc="-1" strike="noStrike">
              <a:solidFill>
                <a:srgbClr val="000000"/>
              </a:solidFill>
              <a:latin typeface="Calibri"/>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Nurullah ATAÇ. Söyleşiler, TDK, 231, Ankara 1964 )</a:t>
            </a:r>
            <a:endParaRPr b="0" lang="en-US" sz="1500" spc="-1" strike="noStrike">
              <a:solidFill>
                <a:srgbClr val="000000"/>
              </a:solidFill>
              <a:latin typeface="Calibri"/>
            </a:endParaRPr>
          </a:p>
        </p:txBody>
      </p:sp>
      <p:sp>
        <p:nvSpPr>
          <p:cNvPr id="69" name="4 Dikdörtgen"/>
          <p:cNvSpPr/>
          <p:nvPr/>
        </p:nvSpPr>
        <p:spPr>
          <a:xfrm>
            <a:off x="2286000" y="2274840"/>
            <a:ext cx="457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971280" y="0"/>
            <a:ext cx="7993080" cy="623736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8. Haber Yazıları</a:t>
            </a:r>
            <a:endParaRPr b="0" lang="en-US" sz="24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aber, bilinen bir zamana ait olayı en kısa sürede muhatabına ileten, geniş bir kitleyi ilgilendiren ve değeri ilgilendirdiği kişi sayısıyla ölçülen yazıdır.</a:t>
            </a:r>
            <a:endParaRPr b="0" lang="en-US" sz="24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aber; gazetede, televizyonda, radyoda veya internette nerede yayınlanırsa yayınlansın sağlam kaynaklardan alınmalı, doğru olmalı, çoğunluğu ilgilendirmeli, özgün olmalı, kişilerin özel hayatına, hürriyetine zarar vermemelidir. Tam bir haberde (gazetecilikte 5N ilkesi olarak da bilinen) Ne?, Nerede?, Ne zaman?, Nasıl?, Niçin? sorularının cevabı olmalı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1403280" y="620640"/>
            <a:ext cx="756144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Özgeçmiş Nasıl Oluşturulur?</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üçlü yanlarınızı öne çıkarı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Tamamladıklarınızı yazı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zgeçmişiniz temiz ve düzenli olsu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zgeçmişinizi kısa tutu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zgeçmişinizi kendiniz yazı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187280" y="620640"/>
            <a:ext cx="777744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Özgeçmişin Bölümleri</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İletişim Bilgileri</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Eğitim</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İş Deneyimi</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ilgisayar</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iğer Yetkinlikler</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Üye olunan Dernek/Kuruluşlar</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Hobiler/Aktivitele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971280" y="620640"/>
            <a:ext cx="784836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İletişim Bilgileri</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İletişim bilgilerini özgeçmişinizin üst kısmının ortasına konulmuş bir kartvizit sayılabilir. İletişim bilgilerini yazarken “Adı: , Soyadı: , Adres: , Tel: “ gibi başlıklar koymanıza gerek yoktur. Bilgiler bir kartvizitteki gibi yazabilir. Bu kısımda e‐mail adresi de yazıl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826560" y="0"/>
            <a:ext cx="7921800" cy="65008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2. Eğiti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Eğitim bölümüne; okul eğitimleri, kurslar, seminerler, tez ve proje çalışmaları, burs ya da ödüller yazılabilir. Eğitimler ve iş deneyimi ile ilgili yazılan bilgiler en son tarihten geriye doğru yazıl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3. İş Deneyimi</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ronolojik özgeçmişte iş deneyimi yazılırken; çalışma tarihleri (ay ve yıl olarak),pozisyonun adı (görev, unvan),firmanın adı ve yeri, iş pozisyondaki sorumluluklar, iş pozisyondaki başarılar hakkında bilgi verilmelid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826920" y="-360"/>
            <a:ext cx="8066160" cy="642924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	</a:t>
            </a:r>
            <a:r>
              <a:rPr b="1" lang="tr-TR" sz="1800" spc="-1" strike="noStrike">
                <a:solidFill>
                  <a:srgbClr val="000000"/>
                </a:solidFill>
                <a:latin typeface="Calibri"/>
              </a:rPr>
              <a:t>4. Bilgisayar</a:t>
            </a:r>
            <a:endParaRPr b="0" lang="en-US" sz="18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onanım, programlama dilleri, işletim/ağ sistemleri, ofis programları, veritabanı programları, özel amaçlı programlar, web uygulamaları gibi alt‐bölümlerde hangilerini, ne düzeyde kullandığınız hakkında bilgi vermelisiniz.</a:t>
            </a:r>
            <a:endParaRPr b="0" lang="en-US" sz="18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5. Diğer Yetkinlikler</a:t>
            </a:r>
            <a:endParaRPr b="0" lang="en-US" sz="18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u bölüme, o pozisyon ile ilgili önceki bölümlerde belirtilmeyen her türlü bilgi, beceri, deneyim ile bunları destekleyen verileri yazabilirsiniz. Bu noktada dikkat edilmesi gereken; belirttiğiniz etkinlikler başvurduğunuz pozisyonla ilgili olmalı ve işin yapılmasına katkı sağlamalıdır. Belirtilen yetkinlikleri yazarken sizleri diğer adaylardan öne çıkaracak, ayırt edici özellikler seçilmelidir.</a:t>
            </a:r>
            <a:endParaRPr b="0" lang="en-US" sz="18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826560" y="0"/>
            <a:ext cx="7921800" cy="657216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1" lang="tr-TR" sz="2200" spc="-1" strike="noStrike">
                <a:solidFill>
                  <a:srgbClr val="000000"/>
                </a:solidFill>
                <a:latin typeface="Calibri"/>
              </a:rPr>
              <a:t>6. Üye olunan Dernek/Kuruluşla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Başvurduğunuz pozisyonla ilgili olabilecek ‐özellikle mesleki‐ dernekler eğer üyeyseniz yazılabili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1" lang="tr-TR" sz="2200" spc="-1" strike="noStrike">
                <a:solidFill>
                  <a:srgbClr val="000000"/>
                </a:solidFill>
                <a:latin typeface="Calibri"/>
              </a:rPr>
              <a:t>7. Hobiler/Aktivitele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Özgeçmişte yer alan hobiler oldukça önemlidir. Özgeçmişte “Televizyon seyretmek”, “Sinemaya/tiyatroya gitmek”, “futbol maçı izlemek” gibi sıradan ifadeler kullanılmamalıdı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Özgeçmişinizi inceleyen kişi, boş zamanlarınızı değerlendirirken uğraştığınız hobi ve aktivitelerden, sizin kişilik özellikleriniz hakkında çok önemli ipuçları çıkarabilir. </a:t>
            </a:r>
            <a:endParaRPr b="0" lang="en-US" sz="22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755280" y="-360"/>
            <a:ext cx="7993080" cy="6429240"/>
          </a:xfrm>
          <a:prstGeom prst="rect">
            <a:avLst/>
          </a:prstGeom>
          <a:noFill/>
          <a:ln w="0">
            <a:noFill/>
          </a:ln>
        </p:spPr>
        <p:txBody>
          <a:bodyPr anchor="t">
            <a:no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ÖZGEÇMİŞ HAZIRLARKEN DİKKAT EDİLMESİ GEREKEN NOKTALAR</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Öne çıkarmak istediğiniz bilgiyi büyük harf kullanarak veya </a:t>
            </a:r>
            <a:r>
              <a:rPr b="1" lang="tr-TR" sz="2200" spc="-1" strike="noStrike">
                <a:solidFill>
                  <a:srgbClr val="000000"/>
                </a:solidFill>
                <a:latin typeface="Calibri"/>
              </a:rPr>
              <a:t>koyu yaz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Paragrafları kısa tutun ve aralarında boşluklar bırak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Başarıları ifade ederken; aktif, pozitif, etkileyici fiiller kullan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t>
            </a:r>
            <a:r>
              <a:rPr b="0" lang="tr-TR" sz="2200" spc="-1" strike="noStrike">
                <a:solidFill>
                  <a:srgbClr val="000000"/>
                </a:solidFill>
                <a:latin typeface="Calibri"/>
              </a:rPr>
              <a:t>Yaptım‐ettim” gibi ben merkezli ifadeler yerine, “yaptı‐etti” gibi ifadeler kullan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Sağladı, organize etti, koordine etti gibi başkalarının da desteğini içeren, ekiple birlikte çalışıldığını bildiren ifadelere yer verin.</a:t>
            </a:r>
            <a:endParaRPr b="0" lang="en-US" sz="2200" spc="-1" strike="noStrike">
              <a:solidFill>
                <a:srgbClr val="000000"/>
              </a:solidFill>
              <a:latin typeface="Calibri"/>
            </a:endParaRPr>
          </a:p>
          <a:p>
            <a:pPr algn="ct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6T10:49:43Z</dcterms:created>
  <dc:creator>tuba</dc:creator>
  <dc:description/>
  <dc:language>en-US</dc:language>
  <cp:lastModifiedBy>pc</cp:lastModifiedBy>
  <dcterms:modified xsi:type="dcterms:W3CDTF">2018-03-30T20:02:50Z</dcterms:modified>
  <cp:revision>21</cp:revision>
  <dc:subject/>
  <dc:title>Slayt 1</dc:title>
</cp:coreProperties>
</file>